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A68-07DF-4EA0-B5BA-89F7D4D9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75D-6B04-4D9B-922B-59E1618F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7AA-F756-4D7E-AD93-E7D90CB8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734-B1FD-461F-911B-C5FBC313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F62-EB66-47B4-80BC-1475B54D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148-7CE4-435C-A78C-84CA3204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702-587D-46A9-9713-CC42C894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F3B-C64B-4878-BE61-387BC53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667-97DE-4A67-B1B9-88A33FF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6F1-ED09-40E4-A945-5F59394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E95-0933-4199-8A47-E165CC2A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9CC-6B58-42A2-ADB5-9F354E9D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10C7-4EE9-4BCE-84FE-7952A3BB4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457360" y="2695680"/>
            <a:ext cx="9144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a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71880" y="2152800"/>
            <a:ext cx="9144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tai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81040" y="2124000"/>
            <a:ext cx="9144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tai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1238400"/>
            <a:ext cx="1352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putHandl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controls how the data is structur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80880" y="2600280"/>
            <a:ext cx="162900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putComponentI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Reads in input files and creates InputSequenc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048120" y="259092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putSeque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In-memory representation for input da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000240" y="3933720"/>
            <a:ext cx="1667160" cy="933480"/>
            <a:chOff x="3000240" y="3933720"/>
            <a:chExt cx="1667160" cy="933480"/>
          </a:xfrm>
        </p:grpSpPr>
        <p:sp>
          <p:nvSpPr>
            <p:cNvPr id="48" name="Text Box 9"/>
            <p:cNvSpPr/>
            <p:nvPr/>
          </p:nvSpPr>
          <p:spPr>
            <a:xfrm>
              <a:off x="3162240" y="4105080"/>
              <a:ext cx="15051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3076560" y="4019400"/>
              <a:ext cx="15051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3000240" y="3933720"/>
              <a:ext cx="15051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InputSequenceXXX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Input sequence specific for a given type of dat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" name="AutoShape 12"/>
          <p:cNvCxnSpPr/>
          <p:nvPr/>
        </p:nvCxnSpPr>
        <p:spPr>
          <a:xfrm>
            <a:off x="1266480" y="1999800"/>
            <a:ext cx="108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13"/>
          <p:cNvCxnSpPr/>
          <p:nvPr/>
        </p:nvCxnSpPr>
        <p:spPr>
          <a:xfrm>
            <a:off x="4009680" y="2019240"/>
            <a:ext cx="1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4"/>
          <p:cNvSpPr/>
          <p:nvPr/>
        </p:nvSpPr>
        <p:spPr>
          <a:xfrm>
            <a:off x="2895480" y="1257480"/>
            <a:ext cx="2086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mpositeInputSeque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Contains several input sequences each with a specific na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AutoShape 15"/>
          <p:cNvCxnSpPr/>
          <p:nvPr/>
        </p:nvCxnSpPr>
        <p:spPr>
          <a:xfrm flipH="1">
            <a:off x="2009520" y="2980800"/>
            <a:ext cx="102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5524560" y="2571840"/>
            <a:ext cx="160956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Featur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Configured to access a specific InputSequence by na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47840" y="3933720"/>
            <a:ext cx="1666800" cy="933480"/>
            <a:chOff x="447840" y="3933720"/>
            <a:chExt cx="1666800" cy="933480"/>
          </a:xfrm>
        </p:grpSpPr>
        <p:sp>
          <p:nvSpPr>
            <p:cNvPr id="57" name="Text Box 18"/>
            <p:cNvSpPr/>
            <p:nvPr/>
          </p:nvSpPr>
          <p:spPr>
            <a:xfrm>
              <a:off x="609840" y="4105080"/>
              <a:ext cx="1504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19"/>
            <p:cNvSpPr/>
            <p:nvPr/>
          </p:nvSpPr>
          <p:spPr>
            <a:xfrm>
              <a:off x="524160" y="4019400"/>
              <a:ext cx="1504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 Box 20"/>
            <p:cNvSpPr/>
            <p:nvPr/>
          </p:nvSpPr>
          <p:spPr>
            <a:xfrm>
              <a:off x="447840" y="3933720"/>
              <a:ext cx="1504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XXXInpu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Reads in a particular file type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Text Box 21"/>
          <p:cNvSpPr/>
          <p:nvPr/>
        </p:nvSpPr>
        <p:spPr>
          <a:xfrm>
            <a:off x="3724200" y="3505320"/>
            <a:ext cx="9144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mp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AutoShape 22"/>
          <p:cNvCxnSpPr/>
          <p:nvPr/>
        </p:nvCxnSpPr>
        <p:spPr>
          <a:xfrm flipV="1">
            <a:off x="1180800" y="3352320"/>
            <a:ext cx="108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23"/>
          <p:cNvCxnSpPr/>
          <p:nvPr/>
        </p:nvCxnSpPr>
        <p:spPr>
          <a:xfrm flipV="1">
            <a:off x="3762000" y="3371400"/>
            <a:ext cx="1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Text Box 24"/>
          <p:cNvSpPr/>
          <p:nvPr/>
        </p:nvSpPr>
        <p:spPr>
          <a:xfrm>
            <a:off x="1200240" y="3448080"/>
            <a:ext cx="9144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mp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AutoShape 25"/>
          <p:cNvCxnSpPr>
            <a:stCxn id="46" idx="3"/>
          </p:cNvCxnSpPr>
          <p:nvPr/>
        </p:nvCxnSpPr>
        <p:spPr>
          <a:xfrm flipV="1">
            <a:off x="4724280" y="2962080"/>
            <a:ext cx="8006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6:10:54Z</dcterms:created>
  <dc:creator>Dave DeCaprio</dc:creator>
  <dc:description/>
  <dc:language>en-US</dc:language>
  <cp:lastModifiedBy>Dave DeCaprio</cp:lastModifiedBy>
  <dcterms:modified xsi:type="dcterms:W3CDTF">2007-02-11T16:35:57Z</dcterms:modified>
  <cp:revision>1</cp:revision>
  <dc:subject/>
  <dc:title>Slide 1</dc:title>
</cp:coreProperties>
</file>